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D38-26BD-4B59-8FEE-357FDDC1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9A8-4764-4D6C-879F-E302481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662-6073-4CB6-808E-2EAD764E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CBA-2D3B-4637-99A9-1D01BCBC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9EB-031C-4C91-B111-966F2D48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95A-DE72-426B-9A12-9163464C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CE7-08CE-455C-83B5-3A2C8E4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8C3-9E29-487F-B76E-A22C2EEF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66B-6294-45F5-851E-0CEE6DDC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6B3-B455-42EE-A84B-CF6F5AA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D2F-9B9F-460D-A884-79BFFA5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AC1-E80B-49F1-A4C5-62CCEE7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22C-A775-4B2D-AEB9-52FC79141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st (show ONLY differences) the tone of Howard Zinn’s “Empire and Its People” reading and the tone of Foote and Skinner’s “Makers and Defenders” chap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e differences of tone through their word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e those examples.  You do NOT need to create a work cited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5:17:57Z</dcterms:created>
  <dc:creator>lehgen</dc:creator>
  <dc:description/>
  <dc:language>en-US</dc:language>
  <cp:lastModifiedBy>lehgen</cp:lastModifiedBy>
  <dcterms:modified xsi:type="dcterms:W3CDTF">2007-12-03T16:08:59Z</dcterms:modified>
  <cp:revision>2</cp:revision>
  <dc:subject/>
  <dc:title>Slide 1</dc:title>
</cp:coreProperties>
</file>